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1DBA-59C8-44EB-8F96-0300661E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3E3-1C96-43D2-B622-7EE8235A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81049-3C4A-407F-9EFF-DB824260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9A004-F864-464F-9C1B-D53CD1F2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6350E-EEEE-42D9-ACEF-CFCB7778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2E708-D289-4643-9E1C-3F5702D1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86468-B268-44FC-8E66-8E770FE3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190BE-6B26-402C-993B-6D817411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5F356-2745-49E0-9D1B-961FA93D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66167-EA4D-48AA-B90B-77BA072E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6444C-C39A-46A2-935B-04827AD8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C4C9A-D4D1-4A8C-82DB-2B71D466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F49-DEBE-4696-B0EB-74BC6A87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17B2E-2362-42BC-AEC7-F455E8B2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9078C-0A87-4B36-9C94-D785C43B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6AAA0-86D9-4E40-B7CC-A6D16991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AE8A5-96B2-4983-8E83-30B99126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1C452-87B3-4A52-894B-BBEEB46B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14EE8-54EC-4760-941B-92BA5263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E0888-5F27-4A44-BABC-67892D4F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C6E01-6816-4A99-9D26-8A8008F5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59BEC-5AF9-4847-AA9F-6DE51A54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38E3B-6B77-4950-A752-9317A0CE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69F-6F24-4879-B573-AF13A7D1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35986-8FC5-42BF-A420-FE4DC301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6BF7C-EFC4-4BC2-9900-BD1A120B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DA251-5C75-4D6E-842D-E2EA7450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DB34F-00D3-4394-8A4A-458090A3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6311C-E5F2-4C63-8499-89BE7A8D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008AC-B1A7-40F3-A17B-A3094843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188DE-3EC6-42CD-A806-743877EA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B35E4-0537-4B3C-A97E-FA223B2D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1A33B-491A-4E11-8083-2FAD35D0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EA987-07C0-4A60-946C-8D141504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A4D9-0D55-4B3E-B60B-CCC1DAE6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CDC88-6662-4355-878B-895C1C5C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7F321-C977-4826-BA04-9CF2DFF8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10412-C4BA-40A5-8808-E1369718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DBC47-A48A-4F4A-9075-ABC43F19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BEC68-A582-4D44-B59A-C7D03832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0FE6F-2202-4EFC-A4F1-5933FDC5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4BBE7-6120-4D16-9A1E-A28E3747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F4162-60F4-4E96-B83B-BBED6B2C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3D3D8-C987-41E2-BC40-E4B31CB2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C6C69-B34A-47A1-A124-BDC09F06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566E-E98E-4389-9783-392F39C0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9DF2B-1C83-478D-B4EF-FEEF176F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0D293-98E3-46E3-B47B-DBA2FBCB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F81DA-FEFD-46D7-ADD4-7CFF8EFE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ED605-6DA6-466F-BC99-F4B9883A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C21F9-713A-406C-B33B-6C913BF7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0A70A3-66CD-48CF-A577-46094CE6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5E9D6A-FAB6-4CFC-82BD-A1E54D59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A06F8B-77D2-4F4E-A296-4751EA38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00063A-1B40-4AA9-8216-C969FDEF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C72EFA-3FCD-4442-8A06-B22CE440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9246-42E7-415E-B217-EBE642EF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5EEEF0-4FC2-4FA0-9B55-794C59B9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B0A5D9-0356-4D9C-A41B-AB251D54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C95F27-7509-4937-9C9B-B2E3C9A2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8CEB2E-38D2-4157-9D80-015AA21D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9A5C73-BA1F-4254-9530-760E4B65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52B71E-56E0-4CC9-A512-B26A6987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1B6686-4727-4905-AB91-33FC07FA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9178A5-DDF8-4429-85AC-65F6A4C1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98FCE7-55BB-4146-986C-9B241A24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73A8E0-7A55-42AD-B174-C59FCCB9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60FC-06FF-4DAA-88BF-2D4CF2C1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D34080-6DCE-48A3-A3B5-617FA701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018875-BAA2-4529-80ED-73E099B4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0D39F-7E22-44BB-B4B3-D327DDD3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A06411-B238-49F5-A6D5-C6F404B8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A16EEC-140D-4F08-8C71-1DF601E1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29A95E-1945-4D0B-A529-7034E273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2431C7-950F-462A-ABAA-B015697A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423072-D81F-4AA5-BE5B-750C48D1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FF4F64-384B-45B6-A813-9DA675D2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86DFF6-3FD2-41B7-9B86-4D92FA26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B803-F91C-43AB-B261-ACC2541D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0384E0-747D-4867-B09F-495EC0A2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4A773E-3E18-42C6-94AC-5D55F9F7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FBE0F4-220C-4463-B976-A7FC4437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6EF61F-3D51-4F82-A519-6CAC7CE4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DE86FC-3855-437A-B867-74A54B4F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761868-0523-469C-8523-8B557E8C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A6EE8D-4CD8-4526-91ED-4E31D2D6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874BE7-87CD-4BB6-BB4E-F4DEBFF1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CF8A5E-FFFE-4C8C-9027-4F625096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CB7D5A-545B-4790-8ED3-0CBA52BF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6CA1-1063-4DF2-9B24-D2380256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AB12DB-5C54-426B-BAF1-69A88594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DD058B-884C-4026-941E-62D99A40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922B83-EBA5-444C-9581-B6DB98E7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E89A35-23BB-4D5A-8593-C2348B9D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7AD582-BD33-45F5-AFB4-4F19BAAE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436CD0-287A-476E-8AB7-2FE912D4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02F1B3-FB32-4BA8-9CF4-9E388ED6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9E93B9-CC98-4F67-A821-DD692694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31EF44-BAD7-4429-9A13-58FE0FF9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B70E71-48B5-4E42-A08A-476B90D8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582A-E6E8-43AE-85F6-CD234DFF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743E8D-40F8-43B4-B461-CC36C347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0C8027-BB28-4069-AEF7-D2FE83EA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74465A-E767-4F74-AB36-5B69A8E1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DF1BDC-2F80-406B-BEB3-F184BB65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BAD196-F121-45ED-8CB4-BEBC0BBE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A3A59A-557F-4C3F-ACDD-6FA3A03B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9F1149-8C8F-41F4-817C-3CE44770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1B91AE-2C24-4CDF-9C60-9316F2CF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C601A5-C05A-42A7-B8E4-ADD15C65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A99840-A51B-449D-958F-5DA8AD97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DA7C-5AF1-48C7-B793-EBCBC0C0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77DE-32C7-4880-A4DB-038F4334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72131-BDF5-48C3-9AD7-AED32A60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EF6A83-282B-4A72-8879-7CBCD058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1B2AC-F10F-4BAC-BC3D-8B3FDEED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3F10EA-84ED-4FA6-9261-9859294F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F0AAA4-53EA-4880-B95B-621B9614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A46471B-1CAD-42F7-A89E-D62AA07F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8292D91-99F8-437A-BCD2-4370FE4C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03A40E1-474F-4FD0-BE0B-579630E1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3B70B11-DD62-4414-8B56-7230B91A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F620A01-B794-4C0E-B427-E61C1CB8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3E39-A984-4748-B0DC-3E5D0968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5458A98-EA4E-4812-9040-0D0E9237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E3B0C98-B0CF-495C-B59C-5979E817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3D2A34E-20A6-40F6-BB26-763AFABC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882AEBC-7148-4026-AB9B-38FAA2C1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477F924-7B1C-461E-9904-26004CC9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F53B09B-02C0-4949-9389-D7B329C8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7734B97-CBB6-45AC-8408-313C94B0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FC18-8DC0-45BE-9EB3-4DFBACB9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FC7C-0496-4D29-B020-EDB8E014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DC05-9414-460F-868C-F1E52077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ABF43-4B87-469A-A0A6-EA5D4943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B742C-3ED0-4B37-AA30-64CC6FBB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12484-F3FE-4653-88DE-67795803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9165D-3E6F-42B3-BC60-A844DB44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3D689-628A-4325-B758-84883CDE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9828-2D95-4FFD-AA77-2FB257A4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C157C-E479-435C-81DC-2498B087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DCCAC-49D8-40B9-B42B-E5717640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018A1-B0E2-436A-91D5-39799D2C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BCCF5-54FA-4542-92A9-F7CB847D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A1396-A29B-4235-B12C-6218F6EC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6C67F-7476-44B3-99C6-56EF5506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3387F-9C81-4868-A61E-6FE90DA5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BD09A-0BE6-4768-8BFC-F7B78CEC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F56DD-E662-44BD-AD25-ADB936B2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DD6F2-7868-43BC-9B9C-C3BFE203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B23C-7D11-414F-AB56-FB074F08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FB0EC-7F09-42B5-9321-3B910916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443B1-BC4F-47A0-8780-CB5229B1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C77DD-CAE1-4AC5-8DD5-EB0FAA71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CF4A0-F4BB-429B-A36A-6749174B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1443F-ACF4-4D08-B6DC-13AB1165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DDDE9-A78D-4DAA-B974-ACE4A583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785C8-C363-4BBA-B0A3-949BCE79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515DC-017B-4926-BE27-5232DD3E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44166-3BE1-4D27-B515-42064873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E76F5-A1FF-49A7-97B6-FB3B0ADC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7C4-72DA-4F91-BFC6-18D5ACA0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CFB62-EB8D-4440-93D0-4CC3494D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8AC46-50C9-4DDA-AC30-2634527A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CCBC8-C0CC-472C-8F91-D3043FA8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7FBC5-94CD-46AA-8BF0-DA32F3B1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A0414-5F83-40E3-A41E-DE47D822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981F4-E582-48AD-9F45-8227866D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4FD99-68CC-41D2-9C11-4B0FA708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CC10D-A0F6-450F-9D4A-E61B0D8E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80B9A-82CF-4D40-8EA8-BB4788D8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02A4B-49F1-479C-81AA-21CEF382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10D-FDB6-4569-8BC2-0A2DA4FB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B8C6E-AEB6-4FA8-8BC4-1F06F771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1D522-0E20-47AF-86BA-FACC5F0C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252A9-B17D-484A-9A30-BC7A1606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E184B-01D4-467D-8E8D-2364D8E2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57D55-5D54-4C3F-903C-3B269E42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354E5-03BE-42C3-9329-093DA6B9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82C96-B591-4311-8B72-57374142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E4C82-CA8B-43C6-832E-A486D2C3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31C6A-87B9-49FA-B6B9-F747023A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90049-5CA6-459F-821D-2F57D372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8DD-527F-4D21-A578-2FAD4726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088D6-7779-43B8-A7D4-39B555A6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0DFB5-FC91-41DA-8A8D-2D883D6E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618AC-FB05-4579-9D92-4CD02959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5AF14-0972-471F-BD6E-2A9BBEE7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4E932-7B35-411B-A00D-B548B834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5C6BA-0666-49E1-B726-076B77FA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DCAD6-0CDD-4CCF-8673-BAEA7799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74868-D05D-4533-A641-938B4077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31E66-BA01-4BB4-80DE-13AEDB93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0BE15-4630-49C2-814A-235714E6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0F6F-851E-4466-A38C-8F004135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09B2A-1601-4F43-A178-53C9BDE7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06979-E87C-4BDD-BE4A-91B2266F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DE668-D32B-4958-8B45-B4EFBC9B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BEDBF-1D0C-4429-8018-EBEAC9CF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F8AEE-EF10-4C82-A840-215604ED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4116F-D98C-43DB-968E-51DE423E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32BB9-E19C-448E-953F-FF63C0D5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E4EA2-8EA5-4B75-86B9-3D04DFA7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D37D6-76CC-4BCE-860B-54C4A264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4ACD4-5D98-49B2-896B-AD49295C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D194-90F4-4AE0-80D4-11884278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B97D8-98ED-43F6-BC9C-1886CC02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3DB8D-3535-4CA0-9078-A62451FE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A3AC2-01FD-446B-AF51-E8CDB396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F7C5A-9280-49F0-A6AF-20BD1A60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CF73E-06B7-4E6F-A0C7-C5744FE0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89233-2040-4CFF-B2C9-92AEDCF9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DEF7D-E447-4AF7-BFAD-35CDDC14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102BD-CF14-4BF8-B512-EF0B6373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9536F-669C-4146-80A6-9266B517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E74A1-AEFE-417F-A707-B34FD0B6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B692-E001-4E44-8EE4-D0EA14B09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8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8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0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dt" idx="2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7A79-B5B9-4E29-9663-5473247AC7B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7486-AF15-4C88-8848-F7881B7E974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5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7" name="PlaceHolder 1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CCBC-0A88-4CDC-9154-51BB96F37F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19F9-ADEA-4E44-8DD9-D033DFB8AE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3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3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7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7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5A2B-3DC7-4079-A29C-C9CE3C30E2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8D3F-D5A8-4788-9277-DBEBA6ADC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F2A1-691C-45BA-BE6A-3FFF0C9D9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0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51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51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1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2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03E8-671D-4AD3-96B0-C8DA6318A8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56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57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7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8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8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205E-C0E4-4550-84B8-E96F14B5E8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 type="ftr" idx="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AB14-E0E0-4077-A1D3-11049F1B1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043E-9104-45D0-B6FE-56DE1EBA39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9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0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1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EC06-4E00-4ACA-A9C3-B7E11E470C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9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9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9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9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0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B207-5398-411D-B04F-FCE320A579D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6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6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7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7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7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8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9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9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9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0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0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3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5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5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6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6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7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7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7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8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BB52-3940-47CA-8509-0CCF6EEE5B5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3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4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6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AAAC-5D17-4CAC-BC1B-7112E80C185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1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2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4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5A2B-8689-4EF4-9802-FDF890F7815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9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9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0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4AA4-E654-4AA2-838B-C9FDF23C1A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a Mansi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  <a:ea typeface="Arial"/>
              </a:rPr>
              <a:t>ó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astellar"/>
              </a:rPr>
              <a:t>Por: Jessica Rodrigu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s un garaje. Es bonito y estupend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67840" cy="45147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End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advTm="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Arial"/>
              </a:rPr>
              <a:t>ó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 es estupenda y bonit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31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458200" cy="4800600"/>
          </a:xfrm>
          <a:prstGeom prst="rect">
            <a:avLst/>
          </a:prstGeom>
          <a:ln w="0">
            <a:noFill/>
          </a:ln>
        </p:spPr>
      </p:pic>
    </p:spTree>
  </p:cSld>
  <p:transition advTm="5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 una cocina. Es grande y bella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4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229600" cy="4647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s un comedor. Es lujoso y incre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Tahoma"/>
              </a:rPr>
              <a:t>í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le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7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50292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La sala es impresionante y bella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01080" cy="4976640"/>
          </a:xfrm>
          <a:prstGeom prst="rect">
            <a:avLst/>
          </a:prstGeom>
          <a:ln w="0">
            <a:noFill/>
          </a:ln>
        </p:spPr>
      </p:pic>
    </p:spTree>
  </p:cSld>
  <p:transition advTm="5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un ba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Arial"/>
              </a:rPr>
              <a:t>ñ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. Es nuevo y grande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10480" cy="466092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cuarto es mag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  <a:ea typeface="Arial"/>
              </a:rPr>
              <a:t>í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ico y lujos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6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67856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s un patio. Es estupendo y fabuloso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9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8381880" cy="49244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j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  <a:ea typeface="Arial"/>
              </a:rPr>
              <a:t>í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. Es grande y increible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2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153280" cy="46782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37:38Z</dcterms:created>
  <dc:creator>rodriguesjes</dc:creator>
  <dc:description/>
  <dc:language>en-US</dc:language>
  <cp:lastModifiedBy>rodriguesjes</cp:lastModifiedBy>
  <dcterms:modified xsi:type="dcterms:W3CDTF">2012-10-26T16:58:18Z</dcterms:modified>
  <cp:revision>7</cp:revision>
  <dc:subject/>
  <dc:title> La Mansión</dc:title>
</cp:coreProperties>
</file>